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5B0-DD21-45A1-A426-4E754E60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AFB-5899-45A5-A77C-9281003B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229-6F6D-44FE-AB6C-AF018F8B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885-1A10-4BBA-98FD-10697937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17F-7E54-4F1F-9F8E-0FBF168A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DCC-234B-4633-8ACF-4EDF56E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C18-3FDC-4C02-B4DA-468C68CB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872-D966-4A2A-8053-F941D2D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1B0-1396-4AA0-BA39-7FCA72FD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C2C-AF93-4CBD-98CF-045EF00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43F-515D-4E60-9EC2-73B0AEC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F57-B957-40B2-BE7B-1F6160D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F4F4-9AE5-4AF6-808A-2FCE6781B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puter.howstuffworks.com/zombie-computer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virus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ing on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Web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ing or downloa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 and tracking what you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Copy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ents-Goodwill-Trad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credit for work 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ions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ions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mputer Cr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omputer.howstuffworks.com/zombie-computer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mb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Th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 (EFT – AT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fe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viruse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viru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m – Trojan Horse – Malware – Spy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issa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 for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virus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non Microsoft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pass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2:42:04Z</dcterms:created>
  <dc:creator>CGB</dc:creator>
  <dc:description/>
  <dc:language>en-US</dc:language>
  <cp:lastModifiedBy>CGB</cp:lastModifiedBy>
  <dcterms:modified xsi:type="dcterms:W3CDTF">2008-01-22T22:56:24Z</dcterms:modified>
  <cp:revision>3</cp:revision>
  <dc:subject/>
  <dc:title>Researching on the Internet</dc:title>
</cp:coreProperties>
</file>